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08570"/>
        <c:axId val="93183793"/>
      </c:barChart>
      <c:catAx>
        <c:axId val="88908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83793"/>
        <c:crosses val="autoZero"/>
        <c:auto val="1"/>
        <c:lblAlgn val="ctr"/>
        <c:lblOffset val="100"/>
        <c:noMultiLvlLbl val="0"/>
      </c:catAx>
      <c:valAx>
        <c:axId val="93183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08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BD1-DE7B-4653-AF19-A976C955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A46F-ED71-4969-8E7F-52901786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B83-B478-4DDC-9716-765F26866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EAD7-6BE1-43A5-A83E-427007803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B814-FF04-418C-967F-2F309C4C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FDCA-9338-4CE5-93C2-BE7AC0E6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B0D-0866-485B-A4AE-11E9C232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CED1-E7AD-4069-B0F3-2CBE0BF8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8DF-EF27-4984-B6DB-1E03A22F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5287-B1EB-43F5-B014-474DE483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3671-D6D4-4C06-ADD1-E58632C1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3762-E90A-412C-BE83-F147C1B8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9C413-1D89-4DA1-B6B2-5B6D74BE57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