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34463"/>
        <c:axId val="62990200"/>
      </c:barChart>
      <c:catAx>
        <c:axId val="49734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90200"/>
        <c:crosses val="autoZero"/>
        <c:auto val="1"/>
        <c:lblAlgn val="ctr"/>
        <c:lblOffset val="100"/>
        <c:noMultiLvlLbl val="0"/>
      </c:catAx>
      <c:valAx>
        <c:axId val="62990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34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EC9-21FF-4252-9EB2-BC5A9036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902-65D6-496B-B84F-5590B881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8D5-7469-410A-A701-A81BF4E5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62B-2623-4729-8271-B8393D21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DB4-F03E-405A-9738-AD5EA6F6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612-77BE-4F22-94A8-EA8C729F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502-D6D0-4A8B-A90F-7F5BD501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FCE-6A7D-4E24-AA8D-5682C9C4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D72-6308-4A91-8C21-1071E66C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3EC-F0B2-495A-A12F-0E1275E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74F-706A-4FD1-B8DB-CC830E42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CA5-05C6-4394-A7C0-1C60091B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2A8A3-30E1-486E-B7E0-E7DE2FF231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