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68642"/>
        <c:axId val="10176834"/>
      </c:barChart>
      <c:catAx>
        <c:axId val="10968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6834"/>
        <c:crosses val="autoZero"/>
        <c:auto val="1"/>
        <c:lblAlgn val="ctr"/>
        <c:lblOffset val="100"/>
        <c:noMultiLvlLbl val="0"/>
      </c:catAx>
      <c:valAx>
        <c:axId val="10176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68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9C2-6B69-4B39-8EED-FBD237F8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A8C-F2BC-47B6-8ADB-16CF0152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91B-C083-4FBB-88A1-E3EC1F36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9E8-4D76-4F60-BA31-A506C2A8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C75-55C3-403D-AED1-87F2D720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2CE-249E-4C8D-BDB9-0B5D909A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7C8-DB90-43C9-9CCB-14364405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E04-81EA-4BF0-95B8-739F552C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D58-5A71-4B69-AFFA-704E89D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456-AF7B-476F-8D3E-47EA3EB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42F-6AF8-4FE1-AE3A-8152314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7F4-946A-4719-950F-A64532BA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6E4AD-A0CE-44AA-A973-E4F894A217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