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2410"/>
        <c:axId val="29399911"/>
      </c:barChart>
      <c:catAx>
        <c:axId val="73642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99911"/>
        <c:crosses val="autoZero"/>
        <c:auto val="1"/>
        <c:lblAlgn val="ctr"/>
        <c:lblOffset val="100"/>
        <c:noMultiLvlLbl val="0"/>
      </c:catAx>
      <c:valAx>
        <c:axId val="29399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2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F72-0A74-46E4-B799-1D66C62F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8E3-D97F-4430-BCBA-E7F9B0E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346-FD4E-4D00-8A6E-B5892414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142-05CA-4F41-972E-C1CA115C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7CE-193B-4FE0-B526-2C40600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2D8-2795-4D22-8C23-FF623E8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921-4C82-4A6E-8986-F9826F9E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F9D-195B-4972-958D-1C8F4A2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288-99C6-4916-8976-876E2E30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33A-001A-49E4-85A3-2C32F4C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DB9-04FE-45FE-B2E3-B050AEE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AA6-AC33-46F7-8B4F-C3721DE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099FF-A99E-4B39-AEAE-6309167C7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