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61736"/>
        <c:axId val="40649924"/>
      </c:barChart>
      <c:catAx>
        <c:axId val="89461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49924"/>
        <c:crosses val="autoZero"/>
        <c:auto val="1"/>
        <c:lblAlgn val="ctr"/>
        <c:lblOffset val="100"/>
        <c:noMultiLvlLbl val="0"/>
      </c:catAx>
      <c:valAx>
        <c:axId val="40649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61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7FF-CDF7-47E5-AC00-75FCD9D7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0CB-BCD3-4F85-8BED-4AE5AB8E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A77-28CC-4A10-9CCC-EB6B550C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D02-F643-491F-BECE-4ACBC9D3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0C8-48BF-4747-BF55-D805093F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A74-AF2B-42EC-927A-77D2801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611-B020-47BE-8142-B3F50C9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CAE-10EE-44F0-A64B-6CA7014E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76D-0424-4135-BC97-53505E9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166-82C5-4B8C-8A30-87FA78C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197-218A-4E3C-A7B0-F19B1B3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0D7-44C2-4F38-A402-E37CC1E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29E3-B45F-4C11-B3ED-07834FF78A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