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01074"/>
        <c:axId val="7080790"/>
      </c:barChart>
      <c:catAx>
        <c:axId val="32010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0790"/>
        <c:crosses val="autoZero"/>
        <c:auto val="1"/>
        <c:lblAlgn val="ctr"/>
        <c:lblOffset val="100"/>
        <c:noMultiLvlLbl val="0"/>
      </c:catAx>
      <c:valAx>
        <c:axId val="70807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10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8AAF-A20A-4741-9CD6-DB1CEF99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6130-058F-4443-A512-8356995A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1CFA-377A-4B81-8868-8A3FEA23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CBE-64D2-4DD8-8FD3-54DB9E94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9A2-E1CC-4A62-85B9-EB791D44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BFFE-BBBA-44A9-9B9D-2A02A247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876E-2DAE-4663-BD1B-157172F4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2369-E989-4792-9E88-E608B64C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F6DA-B5DB-4EE5-A6F9-6D99E99A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6A32-3859-4230-9F17-41E4F8C9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A6CA-D01F-4802-BCC0-14993E6C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74F3-B287-45A4-B2FE-07625C27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5CAFF-7ABC-47DC-86CA-99D74804FA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