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07074"/>
        <c:axId val="40013353"/>
      </c:barChart>
      <c:catAx>
        <c:axId val="78607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13353"/>
        <c:crosses val="autoZero"/>
        <c:auto val="1"/>
        <c:lblAlgn val="ctr"/>
        <c:lblOffset val="100"/>
        <c:noMultiLvlLbl val="0"/>
      </c:catAx>
      <c:valAx>
        <c:axId val="40013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07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F11-73EF-4527-A679-2DDF6B6A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ACF-AC16-4A09-B200-3F5E68E5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8C6-22A9-4DAB-B42B-4D02CA7A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AA1-28C0-4897-BD34-793BB295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10E-B7D7-4304-AED7-6CC79CB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91B-69BA-4E58-B026-F72102FF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EFC-0DD8-4D2F-92FB-38567DD7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539-140F-4495-9A7F-E7E2978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FC2-4001-48A2-988E-77132E08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9A4-8C31-4A57-AECA-39CFD2E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A02-0F96-41E3-B166-AB376FD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343-2710-4593-9130-5DA661B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F7F1B-2689-4B03-87F0-F75D99692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