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43401"/>
        <c:axId val="58831373"/>
      </c:barChart>
      <c:catAx>
        <c:axId val="49343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31373"/>
        <c:crosses val="autoZero"/>
        <c:auto val="1"/>
        <c:lblAlgn val="ctr"/>
        <c:lblOffset val="100"/>
        <c:noMultiLvlLbl val="0"/>
      </c:catAx>
      <c:valAx>
        <c:axId val="58831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43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F4E-49D0-4B19-B911-A83C8D73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F03-109F-4516-91D9-1414D8CA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F21-4D12-476D-84E7-ED745E41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536-1076-42E8-913A-69148160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981-8326-41AB-BDA8-A5046D3F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C23-75B9-48CA-A4EC-7A203149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0EB-E819-4E7E-86E5-3DE3B15D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3B3-0674-4078-B217-AD3C3B34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1FC-3210-49E6-A8F2-79F7236E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1DB-0D70-403B-A3D2-D48D26CA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8B4-4622-4B08-A5D4-82DF6A04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F14-040E-44BB-95FB-BDD1CA62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394D2-4B6A-4B9E-90B1-D657F2B186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