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93896"/>
        <c:axId val="57832551"/>
      </c:barChart>
      <c:catAx>
        <c:axId val="43293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32551"/>
        <c:crosses val="autoZero"/>
        <c:auto val="1"/>
        <c:lblAlgn val="ctr"/>
        <c:lblOffset val="100"/>
        <c:noMultiLvlLbl val="0"/>
      </c:catAx>
      <c:valAx>
        <c:axId val="57832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93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2FA-AC38-4D55-9F90-8306984B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377-2748-4FAD-9452-11F6D0C1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EF0-056A-4316-8387-41F8E338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817-4FF7-4108-AFB6-7FDA8577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5DD-3A63-40AD-8542-00F1D75C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828-12DB-46CE-B441-3BE9EBF8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ADB-BECF-4193-81E6-81407087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C21-2932-4FE2-BF6B-3AA49A8E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3CC-7CD9-4F3F-A3D4-95D80119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66E-496C-4829-BB05-F9B40B2C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555-4EDA-405B-97FA-EE836ECB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FDD-9C6B-4851-BD1B-302105E6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B6D60-B0B2-4830-AB96-BC0ADD18B6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