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191728"/>
        <c:axId val="79480355"/>
      </c:barChart>
      <c:catAx>
        <c:axId val="64191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80355"/>
        <c:crosses val="autoZero"/>
        <c:auto val="1"/>
        <c:lblAlgn val="ctr"/>
        <c:lblOffset val="100"/>
        <c:noMultiLvlLbl val="0"/>
      </c:catAx>
      <c:valAx>
        <c:axId val="794803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91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554C-4225-4A11-A0D1-8E90EF7A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DDD8-AF79-43F3-B820-88614E3B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1D8C-3CE8-4E02-8794-3DD2FE84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8013-53C2-4DF8-99ED-92D9B654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5AFF-2C52-49C1-8083-9AC4CB8F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3800-0DE5-4144-B89A-19BAAD46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BFD9-7DCE-45C4-A9D1-69A322D5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7AA3-02F7-4A44-AD91-E2C279F9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944-C36F-4C0F-AFC8-B2059D23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FE9-5FD2-4620-A7DE-29EEB4F8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9F53-4A4E-491D-83A8-9BAAAF72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861-9799-494B-8A0E-7D3CE2FE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26123-93E6-497C-8ACF-33B6A4E5F8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