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55362"/>
        <c:axId val="27878924"/>
      </c:barChart>
      <c:catAx>
        <c:axId val="15055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78924"/>
        <c:crosses val="autoZero"/>
        <c:auto val="1"/>
        <c:lblAlgn val="ctr"/>
        <c:lblOffset val="100"/>
        <c:noMultiLvlLbl val="0"/>
      </c:catAx>
      <c:valAx>
        <c:axId val="27878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55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832-1C41-4282-8B13-598C9A53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2B5-F435-4017-9FFB-5E21427C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0B7-45BF-4E9A-AA94-A076147C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F03-6A4D-4935-A31A-93A6D67C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5AF-70FD-4DEF-B5D2-EE690162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A2B-C6FE-4F0E-885D-661AC48E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DC2-9CC1-43AD-9B12-FAC90F5F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53E-B970-42B3-9339-BD9632B8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B84-57E5-4979-B4E6-70D759B3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1F5-7C41-4481-927F-2152589F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B0D-E674-49AA-91C8-2D50D89D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3D8-C9BD-4D1D-BFCA-B1083CF5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7DFCE-D721-4452-A780-970E9F17E0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