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9808244"/>
        <c:axId val="86587672"/>
      </c:barChart>
      <c:catAx>
        <c:axId val="5980824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587672"/>
        <c:crosses val="autoZero"/>
        <c:auto val="1"/>
        <c:lblAlgn val="ctr"/>
        <c:lblOffset val="100"/>
        <c:noMultiLvlLbl val="0"/>
      </c:catAx>
      <c:valAx>
        <c:axId val="8658767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80824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53010-A307-40AC-949D-B744E1ABF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AF9CC-8B44-495C-9560-68CC3D75E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FBCE7-BC8D-4961-AF03-12AF4D50E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77833-C6F2-4A23-8980-A014921AD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54E50-A8A7-4FC2-BA29-F8DEFDF6F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FA31A-90FF-4C0B-91AC-EB026C02D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9339A-2BC8-4968-809A-396AB2F85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23239-26B6-4A25-8A13-1E7A42BE9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09AE3-8D97-4DD8-91F3-EC1D04B05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60598-BC20-422B-84F5-298F7EB2C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51494-6904-4A40-A887-0424A26B0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BBB6C-E1E3-4CCC-B361-DDA1E4D44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872DC0-5C8B-43B5-A167-97D76BD7CAE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