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97536"/>
        <c:axId val="38075090"/>
      </c:barChart>
      <c:catAx>
        <c:axId val="30297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75090"/>
        <c:crosses val="autoZero"/>
        <c:auto val="1"/>
        <c:lblAlgn val="ctr"/>
        <c:lblOffset val="100"/>
        <c:noMultiLvlLbl val="0"/>
      </c:catAx>
      <c:valAx>
        <c:axId val="38075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97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5E8-00F8-49D0-9667-2AF21D4C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D6C-3C12-4E6E-9D13-4872219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24A-A4F5-452E-9818-49BD057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383-1FE7-4DD9-9256-73D5538A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A73-4E0B-4B9C-BA63-76AFF2FD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835-DDD5-42B7-91CE-723CAD0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CEC-4A12-47A3-BB6D-76F23B87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10A-2517-431B-A497-EF73A5C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47E-15FF-4884-857E-24DB1CF6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B8C-02EB-46A9-9D20-D949066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E8C-29E8-4435-87BF-BB3FC3F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476-F782-4606-9EDF-4A30617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5B431-50F0-4DA4-91B1-FAD3F9C193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