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51130"/>
        <c:axId val="27000441"/>
      </c:barChart>
      <c:catAx>
        <c:axId val="15751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00441"/>
        <c:crosses val="autoZero"/>
        <c:auto val="1"/>
        <c:lblAlgn val="ctr"/>
        <c:lblOffset val="100"/>
        <c:noMultiLvlLbl val="0"/>
      </c:catAx>
      <c:valAx>
        <c:axId val="27000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51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A23-17BB-40E8-A394-282F418F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9C0-E00A-42B9-9B5E-BD65188E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B77-F20D-49F8-9717-F0385AB0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075-6500-43B7-9AF9-B4E9F03C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915-D408-41B3-9D42-96CB9A12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E9B-FEF6-414A-BCB0-E4D834CF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B93-8BA9-4D1A-9DD2-FBF30F14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E8A-008C-4574-89F5-B8D82060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94B-AA67-476D-9C6A-05538413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1CF-BDC8-4127-8F75-0DDC98A2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C68-506F-467D-BA8C-7FDD3366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EBA-1947-47A2-8056-8051167C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9BB1E-9D3D-4DEF-AB05-909861061F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