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82164"/>
        <c:axId val="56771534"/>
      </c:barChart>
      <c:catAx>
        <c:axId val="60482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71534"/>
        <c:crosses val="autoZero"/>
        <c:auto val="1"/>
        <c:lblAlgn val="ctr"/>
        <c:lblOffset val="100"/>
        <c:noMultiLvlLbl val="0"/>
      </c:catAx>
      <c:valAx>
        <c:axId val="56771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82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802-CBD1-4EF7-A424-07E04FCE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B89-4E08-4B57-B141-5A4CC7F4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A4C-ABDD-4729-A3AD-0D76B62D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B1A-AAD5-4A93-B357-6F9E4141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94D-AB74-4309-9032-E5652B99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F44-F98A-443E-9E3C-BD15BEFE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A5D-87D9-493C-9F25-F8922B23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FB8-03D9-4AB4-AAF9-7DDA0656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7EA-613C-4B12-8EC2-7DBED80C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557-5B9D-4761-84EC-B4B725FA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A33-E733-4DBA-A881-24B6C503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E59-EA98-4A37-BE17-F62B84E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15826-0D02-4E03-BC9E-20C6F504DA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