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342712"/>
        <c:axId val="39809471"/>
      </c:barChart>
      <c:catAx>
        <c:axId val="383427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09471"/>
        <c:crosses val="autoZero"/>
        <c:auto val="1"/>
        <c:lblAlgn val="ctr"/>
        <c:lblOffset val="100"/>
        <c:noMultiLvlLbl val="0"/>
      </c:catAx>
      <c:valAx>
        <c:axId val="398094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427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F8C0-09F4-4B43-9A09-7F4086F3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0E39-AA62-4EDE-97CF-A76D79D8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3B6D-CC7B-4EE5-9ADB-3ADE014D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6CC7-CF85-4BFB-92AC-ACE6AE7B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2EAA-08AC-4596-A642-7531EA7C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D895-E546-4B72-B2AA-C0DF1E06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C91A-0090-4E59-9ECB-4CB084C5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B3BB-9C75-41D5-9418-15A6A3A7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7C19-3FD6-4CF6-84CF-EB911713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F69D-0E87-4576-8D8A-16EDD3E9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2DF3-DB59-4F6F-9183-277FC70B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66CF-C602-4FB3-8B8E-2E958E9E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2F68D-531F-4FAD-81A7-9EEB9918A1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