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88465"/>
        <c:axId val="8465058"/>
      </c:barChart>
      <c:catAx>
        <c:axId val="19788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5058"/>
        <c:crosses val="autoZero"/>
        <c:auto val="1"/>
        <c:lblAlgn val="ctr"/>
        <c:lblOffset val="100"/>
        <c:noMultiLvlLbl val="0"/>
      </c:catAx>
      <c:valAx>
        <c:axId val="8465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88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384-2DF4-40A0-8C64-297D54E8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3DE-2678-4091-AB1E-BBCE959D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572-E76A-4201-8672-998A0FA0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9A3-EE45-490F-B557-38EA7DD8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EF5-D29E-4D6F-8476-BC21FAFE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21A-261F-4C4A-83CC-1B0CA4EF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588-2931-4AF4-8452-933F1EBB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80F-35A3-42F9-BBBF-5D871E77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A66-29D9-4407-A7BC-71BA945F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528-E4EB-4D72-858C-8857C66F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3CB-C60C-47EA-B449-E726F6AE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B96-29F8-4C34-8A5C-51B0BEE9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4D5D1-14C1-4899-B77F-64C95EF08A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