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299050"/>
        <c:axId val="46312454"/>
      </c:barChart>
      <c:catAx>
        <c:axId val="562990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312454"/>
        <c:crosses val="autoZero"/>
        <c:auto val="1"/>
        <c:lblAlgn val="ctr"/>
        <c:lblOffset val="100"/>
        <c:noMultiLvlLbl val="0"/>
      </c:catAx>
      <c:valAx>
        <c:axId val="463124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2990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C74D-D230-42D5-BC27-4A9DE1EE2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410E-1404-4326-BD60-B83ADA2BA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4C56-BB9E-478F-ADB1-EACEAB0A0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B62A-9868-439E-A19B-86DEEBC04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3FF7-4516-4323-9850-57F62F454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CECE-CCFD-41FF-A18A-EC54E91F4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C9A2-9D61-49DB-95AA-6E7C05929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6171-B33E-4136-83C6-8AD2D45B3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2BDD-6390-4D0F-B930-2AE2C0114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99B1-2947-4A79-A136-B4AD032B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626D-6769-4BD1-9EF3-A2D5AEDA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F2AB-7D58-4B8A-AC5F-AA830127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878512-F309-4999-86E7-2AEE54A589A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